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A6D-CE15-4E2A-A316-4B8CFC1A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9CF-C53C-40E8-A096-A0577FDB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80A-A4FD-42C7-9D23-A55314EC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ABD-D750-4B8C-9CA3-79DC872B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C6E-94A2-493E-A405-29784D6C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998-E426-4F78-AE83-E2514B1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F33-BD06-47A8-8561-FE34094A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AAB-7E9A-490D-AD80-3D409448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25F-F37F-4939-9B1C-E4DAA87A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63C-CC1C-42E5-9DF2-37351F3A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81F-7706-4492-A590-9215AD1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23B-6BD2-4B3D-9BC2-24FD9360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1008-B328-44A6-8A78-D6242C76E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 Clase 701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7 de junio del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7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A ti te gusta la mus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ustar, interesar, aburri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rite 3 sentences with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r, examinar, explic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s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(remember to use the noun phrases to clarif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responde 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10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class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7200" y="228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25146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rea # 76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0:39:42Z</dcterms:created>
  <dc:creator>Helen Zumaeta</dc:creator>
  <dc:description/>
  <dc:language>en-US</dc:language>
  <cp:lastModifiedBy>Helen Zumaeta</cp:lastModifiedBy>
  <cp:lastPrinted>2016-06-07T14:49:59Z</cp:lastPrinted>
  <dcterms:modified xsi:type="dcterms:W3CDTF">2016-06-07T17:00:57Z</dcterms:modified>
  <cp:revision>39</cp:revision>
  <dc:subject/>
  <dc:title>Me llamo ________ Clase 7 im La fecha es el 13 de mayo del 2011</dc:title>
</cp:coreProperties>
</file>